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315-E42D-4DDA-8C3D-8BDA0300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75-F630-4007-A74F-EC18A93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399-6C23-4CDF-A4C7-940E4DEF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6C0-0B43-4D16-ACD6-76A50537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0A7D-3257-45B9-A0F4-A83B5D0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F09A-2DF5-4748-B4CE-E33C73F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99F-33F5-4CDA-814B-11A0CF1B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AFE-5824-45E1-B3D2-19F4CDD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42C8-1F2D-4BE1-AA82-96FCDBB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F61E-A661-4051-8154-F6500D80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ADDE-29EE-4520-AEAD-874B8E0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9F3-8310-4FF0-91D8-101781F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CFC8-439E-4BD5-9575-5CB451A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1BF-CC20-424B-A673-21138B6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237-F4D6-40D5-B036-A07E73EA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628-1E4A-4143-AEE6-205FA1E9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250-CF1E-4F6E-8374-4AF439C1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C7C-BC44-42A5-BAFF-9216A316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26A-D96D-4B1C-8C88-C580272D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563-DC41-4FA8-BF3A-636CCEFE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462-6BAD-436F-8831-B76A46D1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1CE-F9D9-4406-8358-35AA6FD6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3F3-34A3-404E-8EDE-FFAD50D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E29-7F14-4F37-8486-9F16123C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ECD-B6D7-47C5-A1E1-BCE9C5441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341-BBCE-4F41-B9A8-C9224D680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838080"/>
            <a:ext cx="8686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I Nº 7.805, DE 18 DE JULHO DE 1989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 o Decreto-lei nº 227, cria o regime de permissão de lavra garimpeira, extingue o regime de matrícula, e dá outras providênc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concessão de lavra depende de prévio licenciamento do órgão ambiental compet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7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realização de trabalhos de pesquisa e lavra em áreas de conservação dependerá de prévia autorização do órgão ambiental que as administ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s trabalhos de pesquisa ou lavra que causarem danos ao meio ambiente são passíveis de suspensão temporária ou definitiva, de acordo com parecer do órgão ambiental compete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40:33Z</dcterms:modified>
  <cp:revision>70</cp:revision>
  <dc:subject/>
  <dc:title>Apresentação do PowerPoint</dc:title>
</cp:coreProperties>
</file>